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86DF-9CD6-43AB-BF62-221BCE21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571C-AFF6-4388-9905-D9A09EA9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6F94-71DB-4054-9A19-C5F81759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895-D583-4F86-A6A8-E17E6C00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FFDB-8913-4A08-9697-04A9A498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34A-4A4D-4BC4-888D-B1DC1AE4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2CD-7F64-40A6-9ED1-B514C104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2CE-CD43-4109-8C5E-6BC5B255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599-5456-488C-8720-02DE6CCA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570-F6EC-42C9-81F4-C0479BBC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4D2A-C335-4A2B-B1A5-AC3E192C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2240-122F-4BDA-B499-43BA6798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2800-A3A5-4B8F-82FE-311DEE1B6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92760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duplicated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ion 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1192320"/>
          <a:ext cx="7620120" cy="55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92320"/>
                    <a:ext cx="762012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8-01-31T17:52:31Z</dcterms:modified>
  <cp:revision>2</cp:revision>
  <dc:subject/>
  <dc:title>Dimension aggregation</dc:title>
</cp:coreProperties>
</file>